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ADA-CFB6-4862-BC38-150F260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5C5-8254-47DB-99B7-E928938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81F-940F-40E0-A70E-09CBCB1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BFD-219A-41BC-81C6-2CCFD8B3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961-C674-4B97-AF1D-11FB8C4F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74AA-6FF4-417F-B86E-C1E463D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58F-5441-4FFA-81FE-C1C1A2FE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648-A03F-4DBD-8BB6-079DA77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DA4-E9D8-4B51-AA51-010BE48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D3A7-B525-4CA3-918B-502A0B3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0DCE-1E15-4A08-8DC8-25F05F4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492-FA28-4F46-AF38-BD5728A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A64-AE3B-45B9-BFE9-329410E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8BDA-142D-4CB3-BC19-4828A8F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D94-6FCD-4657-9096-84D757B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49EB-AE88-4D89-A774-3B31839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808-0083-4EA7-9026-29ACB4E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4C37C-E1E7-4C60-BD57-5C75C1D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A027D-A837-4AD7-9FD5-DE2CFFB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FD1A1-BFE6-4E6C-B01A-C016CEC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E6CD9-63AA-4224-A112-2320703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FD7E0-E4A6-44B2-B9D4-0A9404E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C2F-3F76-4A99-AE04-BC5D4C1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99A86-B3BC-4C4B-98CA-CC2FEE04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0CC9C-1097-41C9-B6E7-4AF7522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0E9D1-4C91-42D6-B090-97A2204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B3582-1264-453B-A35D-F7F314A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E027F-EB5C-485B-934C-9F6E801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3F13D-B5C6-41D2-A44B-B862FBC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65E44-D64F-4E52-9A13-310933D2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A0A2-3ACD-41E0-8B47-BC39D621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2DB5-67F1-4E2C-B510-1396616E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7F54-BD41-4CBC-8DF3-DBA8CDB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D5A-AA0D-424A-8AF3-1E28E4C1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5A87-7729-4E91-92EB-C9BC488B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3096-0A55-463F-9091-C3635388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0398-4EE4-4360-B95E-50A031F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8937-256D-477A-A7C2-9DCB4A4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E171-6E0F-4B77-85A7-3BBFE71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819C-B98A-4701-B6A8-EA6AB8A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9B21-2826-4349-8DBE-BCEC7D55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3CF7-0969-4740-9D82-D9390A5C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E01E-F42E-4CFD-A9DD-84FFFAA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6F046-4B07-447B-9923-FE8AAB6C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70-CFC8-473A-BF30-5EAFDCD4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AFC29-1219-48F0-8C54-5A1FB81C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D530C-E465-4DAB-9041-C1D73EF4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3E611-EB12-4718-AF9C-2D55CDBC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38844-2121-4ED6-93AC-259D463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984C2-7811-48F1-8603-5A49E65C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6F8A8-0DD6-48FB-9B80-F68309D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26104-382E-4F7B-B269-FDFE583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081E4-74BC-441F-A936-C5F3A7D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9456B-14DB-4D9A-9330-F842CA87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6CFFD-BCA5-469C-ADAC-FD7AEEEF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33A-6165-4876-8EF5-29F74CA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378B4-732B-4124-8D62-368A0A2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C63B7-8EBF-455A-B118-5C385599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94C82-5E8C-46EC-9B72-07AB5F5B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48B2A-CC83-4902-8691-048B9C5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955DE-3893-48E6-B499-A56C200C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B8EF4-C339-4383-AD33-EA98636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0676F-DB2C-4AD8-BDCA-BC05F7D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686C2-C5A2-40D8-8E83-34F7B8A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50D2E-6761-4466-A2A1-5BC98BF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E4CB8-5C29-4E15-AB73-E9B44D1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C7A-B0A8-4767-9656-D875AB5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A0E70-48E2-4EA1-AD10-479BF59A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7B32E-36A9-466E-9FE2-C3AFAE13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300E-8019-45CC-ADCF-1C62F64A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0D7A8-C975-4E6A-B53F-FDD0AAB0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3BC89-9CB6-400C-B0F3-EA5167F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18961-624E-4338-A884-BCB463F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7B245-B12D-4B8B-B9B7-E2C4A101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A55BD-416E-4ECD-BDBE-B6D64C0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9D57A-9224-48BC-9CF6-784D5BC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096D0-8827-4868-8DB9-48109C02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06A-3087-4DA4-A2E2-4E137F2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3FF41-B771-46BC-B40D-69C3461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BE8F7-8AA3-4404-82F4-D17DCDF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292A9-B0E3-49C7-93F8-6142890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F96F4-646A-4E50-A5A6-7EEED3EA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E7091-376B-4D11-BA6B-8717279C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B85-9582-4BF9-827A-F5FD919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323-80AE-4F3C-862D-81C3414DE3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345-131D-4C21-8405-3766AF6848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BEF-8BA2-4356-ACCD-94CEA05C5A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73D-6F49-4B87-807D-EC3A8EF139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0AB-618A-49E3-B112-303FD41C48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274-4933-45E1-B57B-3FC33B4FFA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855-D2D0-462C-84A5-4BD2013382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502600">
            <a:off x="140760" y="40431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ddd"/>
                </a:solidFill>
                <a:latin typeface="comic"/>
              </a:rPr>
              <a:t>KRYPTON</a:t>
            </a:r>
            <a:endParaRPr b="0" lang="en-US" sz="6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1792440" y="-66600"/>
            <a:ext cx="705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omic"/>
              </a:rPr>
              <a:t>HISTORY</a:t>
            </a:r>
            <a:endParaRPr b="0" lang="en-US" sz="6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ed by:Sir William Ramsey, M.W. Travers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Year Discovered:1898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y location:London England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Name Origin:Greek: Kryptos (hidden)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erivation of Name/Symbol:Words beginning with "krypton": kryp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omic"/>
              </a:rPr>
              <a:t>K</a:t>
            </a:r>
            <a:r>
              <a:rPr b="1" lang="en-US" sz="3000" spc="-1" strike="noStrike">
                <a:solidFill>
                  <a:srgbClr val="1f497d"/>
                </a:solidFill>
                <a:latin typeface="comic"/>
              </a:rPr>
              <a:t>RYPTON PHYSICAL AND CHEMICAL CHARACTERISTICS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Phase at Room Temperature: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Density at Room Temperature:0.003733 grams per cubic centimeter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Melting Point: 115.79 K (-157.36°C or -251.25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Boiling Point: 119.93 K (-153.22°C or -243.80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Color: Col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dor: Od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xidation state: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Ionic or covalent bond: covalent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 Negativity: 3.0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n Affinity:0  kJ mol-1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"/>
              </a:rPr>
              <a:t>KRYPTON'S HAZARDS, USES &amp; ABUNDANCE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isk/Hazard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OUTES OF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substance can be absorbed into the body by inhalation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INHALATION RISK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On loss of containment this gas can cause suffocation by lowering the oxygen content of the air in confined areas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EFFECTS OF SHORT-TERM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liquid may cause frostbite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FIRE: Not combustible. Heating will cause rise in pressure with risk of bursting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Use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Abundance: 0.000108-0.000114%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29:05Z</dcterms:created>
  <dc:creator>install</dc:creator>
  <dc:description/>
  <dc:language>en-US</dc:language>
  <cp:lastModifiedBy>install</cp:lastModifiedBy>
  <dcterms:modified xsi:type="dcterms:W3CDTF">2009-04-22T13:55:13Z</dcterms:modified>
  <cp:revision>3</cp:revision>
  <dc:subject/>
  <dc:title>Krypton</dc:title>
</cp:coreProperties>
</file>