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01C-C1B9-4FBD-98B0-511044AB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767-8FEA-49EB-B6A6-5C50659C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64B-8244-4B17-90B7-88089ED1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A1D-23BA-47DC-A48E-8FFE2FB1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1529-2ECD-4216-89E9-DA837798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ABEC-B4FA-42F2-91F0-1112675C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00E1-D5A6-445E-9958-5722D463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5376-DBD1-4CD7-97F0-3C12F5DB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78DB-42F3-4816-87D7-AC66CF3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8B51-0854-4CC8-ADFD-2E72CC9F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D8C2-24BC-4A0C-AEFC-D10D2B8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303-5010-4A76-971E-754BF426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4183-840B-4EEF-B95C-5BDA845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F238-2629-498E-8774-03FA1985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837E-2102-403A-A4C5-141CD0AB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C742-491E-4E5D-AC21-8411338C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0135-9E6C-477C-9652-F7847B71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9FAB8-8F53-4CAA-A43A-B242E8D5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F9249-8B25-429A-BD8F-9D059BF4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F3DFE-0FD1-4347-848B-031E657E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ABE1B-18F8-45F9-8EB7-2739DFA1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AAFF1-DE93-450B-92AE-EA305A0F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2D3-C0DE-488A-92C4-FA44EA8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C11CA-6D99-4750-BABE-8E475EFA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E50E0-45CE-4516-8385-47F3162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77B38-8E65-4029-929D-D28D8FC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D8A40-EBB4-4ABF-9760-1B3A8C5E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A3DFB-1E28-423B-8846-B5A8DBC0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5B177-1A6F-4971-9F85-E78430B8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38F52-E2AE-4CF7-A84B-A462864B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BE8EC-64C5-480C-9311-95268423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9FE8-F9F8-4EB4-BA49-26766194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5738-1605-4B75-9851-EBC4BD49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8CD-3A41-4A1E-A5EE-83D72F6E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1D83-AA33-4991-B9AF-75F7B76F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C71F-004C-4E05-8B1F-00C21DB5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1315-BDA2-49B9-837D-F8C5CE07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B6D4-4BA4-4272-A8BE-13DFA70B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422D-BFA0-43D3-8EBA-81F5C77E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B85C-62B5-452B-8E2C-D76E40C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11B3-31F9-4471-90DF-CEA77D6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AADF-1428-4F8E-8417-3BC718A2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AE0A-E646-4235-B2A8-9D8BA032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B18C8-46FA-4085-BA33-5831DA11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D36-F36A-44B1-B352-E39EB62F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E7362-2035-4B09-9EA5-A3267EA5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69420-4E42-4EB2-9E5F-7B303DDA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76056-2355-499B-8773-7C285ACA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A76E4-3D58-401E-BDC2-D24B8937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C2A6F-1EFC-4106-A596-BE12D6B1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32FF6-118D-4739-B2AE-701A88CD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75859-95B9-4EBB-9266-2FA9E9BD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4E2EE-224D-4893-9749-67AF5B4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8244C-891E-44B4-B57B-EF99D44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3B32C-D87E-4270-9F23-862094F9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816-495B-4CD9-ACD9-C50169C1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29F17-ECA1-43AE-BEBD-6CE145B3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79B43-8215-4613-B327-95E2D8B5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5A6B3-9673-42EA-9EC5-9E91B24B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F6ABB-9220-4CDE-A8A1-4B3A537E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29FD5-2993-4D1A-9754-6E2F7832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C6206-FD44-4A5F-94EF-23E18E0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F936D-854A-4C7C-8FA9-7C2A7ACA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D721A-EF0B-447C-8674-A324948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800BB-8658-41A0-B312-7E4A44ED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4651A-3A0F-47D8-A781-AEDCFBA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37F-2EB1-4F11-B007-A1D97B0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5FC5E-37B6-43EB-BA04-26617C1C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48F49-8979-48E9-A0D6-0AFD9CA8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8F047-273E-46B5-8F63-492A2E79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E6F5E-4D3C-48C2-8147-9E448DE0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53BF5A-43C5-43F4-8AAB-41A1B1B4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4BB90-D604-444E-87B9-73B5A0FE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8669B-5D36-4C92-85A4-33CDA4DE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68B45-F7D9-420A-8F94-104FD999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33C8C-106A-4C5E-8198-3D55D666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BC037-1F41-4E3F-813D-48956F9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4DB-F9DF-4C1C-9E29-6B5487C1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5A0D5-28EB-4A9F-8E2B-4044F991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02E4E-AC07-44DD-A09F-BE77F9C0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59B38-3DE6-4C4B-A90B-D4AEE6DA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E7ABB-B6FC-461C-B367-6D3295C4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26801-C67D-4D2A-B7C9-2AA33FE0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072-A00B-4D24-9D6A-973FC70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4F4F-4FF9-4657-B73F-B4F6ED36D7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5F7-E479-4CAE-B021-EB96A3E5C3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E82E-8802-413F-9CDE-D89F18A674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6A39-C93F-4547-8A36-12202DCC02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3C0-4EB9-40EF-90B2-2F080A76FA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7B82-1B52-4908-96E3-3D90B8F657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4D23-4CA5-475E-B53C-54561D9E24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20502600">
            <a:off x="140760" y="40431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cddd"/>
                </a:solidFill>
                <a:latin typeface="comic"/>
              </a:rPr>
              <a:t>KRYPTON</a:t>
            </a:r>
            <a:endParaRPr b="0" lang="en-US" sz="6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1792440" y="-66600"/>
            <a:ext cx="7053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omic"/>
              </a:rPr>
              <a:t>HISTORY</a:t>
            </a:r>
            <a:endParaRPr b="0" lang="en-US" sz="6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iscovered by:Sir William Ramsey, M.W. Travers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Year Discovered:1898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iscovery location:London England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Name Origin:Greek: Kryptos (hidden)</a:t>
            </a:r>
            <a:br>
              <a:rPr sz="2400"/>
            </a:b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Imprint MT Shadow"/>
              </a:rPr>
              <a:t>Derivation of Name/Symbol:Words beginning with "krypton": krypt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omic"/>
              </a:rPr>
              <a:t>K</a:t>
            </a:r>
            <a:r>
              <a:rPr b="1" lang="en-US" sz="3000" spc="-1" strike="noStrike">
                <a:solidFill>
                  <a:srgbClr val="1f497d"/>
                </a:solidFill>
                <a:latin typeface="comic"/>
              </a:rPr>
              <a:t>RYPTON PHYSICAL AND CHEMICAL CHARACTERISTICS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Phase at Room Temperature: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Density at Room Temperature:0.003733 grams per cubic centimeter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Melting Point: 115.79 K (-157.36°C or -251.25°F)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Boiling Point: 119.93 K (-153.22°C or -243.80°F)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Color: Colorless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Odor: Odorless gas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oxidation state:0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Ionic or covalent bond: covalent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Electro Negativity: 3.00</a:t>
            </a:r>
            <a:br>
              <a:rPr sz="1500"/>
            </a:b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76092"/>
                </a:solidFill>
                <a:latin typeface="Imprint MT Shadow"/>
              </a:rPr>
              <a:t>Electron Affinity:0  kJ mol-1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"/>
              </a:rPr>
              <a:t>KRYPTON'S HAZARDS, USES &amp; ABUNDANCE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Risk/Hazards: Used in fluorescent bulbs, flashbulbs, UV lasers and as a wavelength standard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ROUTES OF EXPOSURE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The substance can be absorbed into the body by inhalation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INHALATION RISK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On loss of containment this gas can cause suffocation by lowering the oxygen content of the air in confined areas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EFFECTS OF SHORT-TERM EXPOSURE: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The liquid may cause frostbite.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FIRE: Not combustible. Heating will cause rise in pressure with risk of bursting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Uses: Used in fluorescent bulbs, flashbulbs, UV lasers and as a wavelength standard</a:t>
            </a:r>
            <a:br>
              <a:rPr sz="2200"/>
            </a:b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rint MT Shadow"/>
              </a:rPr>
              <a:t>Abundance: 0.000108-0.000114%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29:05Z</dcterms:created>
  <dc:creator>install</dc:creator>
  <dc:description/>
  <dc:language>en-US</dc:language>
  <cp:lastModifiedBy>install</cp:lastModifiedBy>
  <dcterms:modified xsi:type="dcterms:W3CDTF">2009-04-22T13:55:13Z</dcterms:modified>
  <cp:revision>3</cp:revision>
  <dc:subject/>
  <dc:title>Krypton</dc:title>
</cp:coreProperties>
</file>