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6D8-670A-45DB-A311-0E97AA44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4EE-22F0-428C-851A-6E003123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B3F-348F-49D2-9068-42AF0BC3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3AB-0443-427C-85E4-EF23AE59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C47-BCA9-4269-B549-1DE9F2F2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D9B-C57D-4A6F-9015-4C66437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045-7443-4472-89AB-215E6A2D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2F9E-D506-4B54-870E-0F607C0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7F5B-FB0E-4886-917E-DE6470C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296-F8D5-455E-A28B-409516B1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9135-132A-4F83-82E4-71B7947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65F-EE08-47DE-9874-C3664685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2AD-5D02-4F15-9544-9E045B8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7FE-435E-4DE4-88CD-B9E72AF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9EA-D2B0-40B5-9FB1-EF5F4E9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A33-4981-4553-B3B1-BF845D0B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EEC-4DD7-4E38-A9C7-533F1802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ECB11-E565-4260-9A94-D852DB4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F0676-50CD-475B-A648-FA5E36DA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797EF-ADA4-4FAE-9D4F-349436D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92046-25FE-42F0-B497-9FEBE1E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C2DB2-DB3B-4C8E-9188-6EE64BC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917-73BD-433A-AF70-D0E9464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B3076-405E-4A66-B8B5-8A05AAC8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3E0B9-1677-4E6F-B126-FAA4CFEF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29008-D7A7-4DC1-99AB-22251BF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F102B-DDC3-4D53-9EBF-3A6D333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4675A-6D19-478B-8157-98C9030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66535-22E8-45EF-84B8-72856E4F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57424-896E-446C-B651-D85A479A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02AB-8D5B-46B7-9174-A77F6DC6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2D3F-4A99-476D-AE44-80A159A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F982-6A6E-476D-A01E-7A2DD8F1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706-BB73-43D4-A061-6EACA7E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83C96-1D81-4845-9FC7-F175FE2D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B9D0-6EC4-403D-BC2C-4115B05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F0FC-8993-4D4D-BFED-D5F725E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3620-AAD1-4852-9490-5548636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D362-6C36-41EB-A583-56A01BDC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4852-06D8-4B84-9C5E-955682C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5D1E-68A3-4ADA-B3C3-76803610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52F1-DEE2-4CF4-B338-3B2759CA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83E3-90E9-4CA6-9F12-FEFF7B33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4191F-31D1-440F-AEAE-30C6C755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B78-727B-455E-96BB-3C740F0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126B7-3229-4A11-A974-14C03BE8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8DF78-02C3-4410-BF00-5FCB504B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42040-AD8E-41DD-8CF9-E9CFF94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7D43F-1C4A-45E9-B56F-6717F22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B3007-7200-4EED-8C2F-E2B7D67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EA41A-5470-4604-9849-E878563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F0335-8F2D-4364-8A89-96E1172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47B53-5EA5-40D9-A782-09DC98BA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577CA-195A-4498-9164-9804EA1D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AB2A6-E4E5-40DC-BA8E-79356E5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F9C-46EF-4BF2-B33D-25E8049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48B13-DED7-4A13-8084-DA59AC1D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5D5D7-3978-4BAB-A4C5-BFFD21D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E7814-E683-401C-998F-35F84B7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12D94-3BA3-4A5C-BD13-ABBB3F5F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FCB43-76E0-4947-A089-41E00D74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FDB12-F565-49AC-B066-6CB40ED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C3F35-6F64-4EE7-80A0-510FD9AE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01BDC-BA41-4D45-8292-65B7DCB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4E51E-94F3-4250-B999-9A42972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3031E-E7D1-47F2-ACB1-CE184AD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CAD-805D-4F67-9F82-558EEA3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2A853-142B-4C15-8820-6C6A15A8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B3EDD-06F7-4048-B440-35D7D0B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8F022-7B57-4605-A6B6-3B44E82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6C726-3CF0-40FD-BF56-A0D88301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EFFAA-B56A-4136-B253-CCB61EF6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D487D-D550-4C03-BE3B-E137BC9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98C86-1650-4B7E-AF3E-9811625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DF2EE-6F5C-4A4D-B862-C2B74FD0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7C28C-A425-4902-AF24-BDB2923D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28C6A-699A-4B8C-8DB0-5583950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2CD-F110-4D02-8139-FA51A64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959B5-3C28-4986-B492-4095820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A5EAA-7E0F-44BB-BD91-5BCC77F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606FA-AB17-407D-A964-EDC472B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83813-E460-408B-86AB-375EDCCF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35861-9895-4E09-B944-92B17186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85E-A76A-4BA4-B98E-4CC97FD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FF2F-C4BE-4B83-A730-F2F7469B3F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22D-8F5F-4C84-8BF5-34A8BBE096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353-DC5C-40AE-87EF-99EF30E604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A16-D4A7-4B58-AD9A-EF094B0902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8AD1-F3F5-4A51-828E-92D78BE3C8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F0C1-7CD2-49DF-931B-D54ECFDE5D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D727-6B30-4CA5-B1BE-EC6362437C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502600">
            <a:off x="140760" y="40431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ddd"/>
                </a:solidFill>
                <a:latin typeface="comic"/>
              </a:rPr>
              <a:t>KRYPTON</a:t>
            </a:r>
            <a:endParaRPr b="0" lang="en-US" sz="6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1792440" y="-66600"/>
            <a:ext cx="705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omic"/>
              </a:rPr>
              <a:t>HISTORY</a:t>
            </a:r>
            <a:endParaRPr b="0" lang="en-US" sz="6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ed by:Sir William Ramsey, M.W. Travers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Year Discovered:1898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y location:London England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Name Origin:Greek: Kryptos (hidden)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erivation of Name/Symbol:Words beginning with "krypton": kryp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omic"/>
              </a:rPr>
              <a:t>K</a:t>
            </a:r>
            <a:r>
              <a:rPr b="1" lang="en-US" sz="3000" spc="-1" strike="noStrike">
                <a:solidFill>
                  <a:srgbClr val="1f497d"/>
                </a:solidFill>
                <a:latin typeface="comic"/>
              </a:rPr>
              <a:t>RYPTON PHYSICAL AND CHEMICAL CHARACTERISTICS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Phase at Room Temperature: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Density at Room Temperature:0.003733 grams per cubic centimeter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Melting Point: 115.79 K (-157.36°C or -251.25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Boiling Point: 119.93 K (-153.22°C or -243.80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Color: Col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dor: Od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xidation state: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Ionic or covalent bond: covalent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 Negativity: 3.0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n Affinity:0  kJ mol-1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"/>
              </a:rPr>
              <a:t>KRYPTON'S HAZARDS, USES &amp; ABUNDANCE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isk/Hazard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OUTES OF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substance can be absorbed into the body by inhalation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INHALATION RISK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On loss of containment this gas can cause suffocation by lowering the oxygen content of the air in confined areas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EFFECTS OF SHORT-TERM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liquid may cause frostbite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FIRE: Not combustible. Heating will cause rise in pressure with risk of bursting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Use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Abundance: 0.000108-0.000114%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29:05Z</dcterms:created>
  <dc:creator>install</dc:creator>
  <dc:description/>
  <dc:language>en-US</dc:language>
  <cp:lastModifiedBy>install</cp:lastModifiedBy>
  <dcterms:modified xsi:type="dcterms:W3CDTF">2009-04-22T13:55:13Z</dcterms:modified>
  <cp:revision>3</cp:revision>
  <dc:subject/>
  <dc:title>Krypton</dc:title>
</cp:coreProperties>
</file>