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6E1-31A4-47B4-A342-C4E600A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E4A-5D38-4A1F-BC35-54C68CE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665-52AA-4762-A68C-780B4D7E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A94-A26C-405F-9E6C-D200B2AD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E10-988F-41A7-BA33-C147211C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61E-F075-41B1-9104-92D70963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1C86-9B16-4FCF-B581-772CA1CC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EA5-383A-4ACD-8AA2-B0C2368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9B42-B92D-4188-B0BE-EE9839B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0CE-B027-4AB5-9468-5D70C08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3CB2-B6C0-477B-9584-5212420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4EE-C9EB-4F88-AF85-28AD845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E623-794C-4D14-8179-D01D7EC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549-7D0B-479C-B9EB-E353F18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24B6-B72A-4F48-AB51-C7EB5B1F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B3ED-2FE5-4B88-A305-A837BCEB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B294-ED6D-48BC-B3F7-C04CCD43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77F1D-895C-4873-A6DA-FE63B6A4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6A414-2EA5-4194-BA23-A4A9C91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66036-8003-4DC6-8E26-29FECD8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0FA9F-D687-4BC8-80F2-08B0D72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7F3EB-C665-48F4-AF67-F428C46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6EF-260B-4350-B999-224590A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1ADB9-9F64-48EF-AA71-30AC5E6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BD094-DDAD-401C-8CF0-E2BBB90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9053F-6585-4CEA-91D6-0195DF1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92DF6-B025-4A2C-85F5-7637BC1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F351B-ACF2-4D2B-BA9E-50426BA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9FB90-9E73-4CB3-959C-7DA9369A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D01A3-D0AF-45B0-A5AA-43B11580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9A3C-F5F3-4F75-8746-1BC899A5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76CD-2A23-4E3B-9A26-E492A72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31CA-6402-46EE-A2F1-57F0BC7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9CF-CA60-44D3-8D76-4D0A968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7159-E41A-43F3-86D1-A79232E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8647-F4C1-4B7E-8576-6B10740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B1770-3660-4117-85DF-679670A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82C9-5C37-4E0B-8FCA-AC215D9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9D6C-B549-4AEF-B869-7E08A2F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5F62-C02D-44B6-B7EA-BBAD113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6E3E-C885-49CD-8E2B-5B55C1C3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8CE3-9FD7-41AB-AF8B-4E86F434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A913-E67A-4BFF-B1BA-94C7E27E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20BCD-846F-4E8D-A414-DAFB876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6AE-A3D9-4EDC-A489-1A30B5CE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FC6AD-FE6D-4D14-933F-B3C452F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BF9A3-F670-4BC0-B4AC-AA7B369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1CB42-4B35-466A-A982-9DF3BFD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7A9B1-4F28-46B1-AB5D-64CE4660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50B73-46F9-4923-B179-76CFA86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80932-999D-4ABB-9A23-852EA6B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96BDF-0DC9-41CE-BE47-BCDF3FF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D6102-273E-456A-92FF-D3A9741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44892-614E-4BE8-86E0-B1ECBC1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5A34B-6620-4108-A363-62893EB5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9CD-4E37-4713-BC2A-144DAAB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FFC3D-2B9E-4A3D-96DE-0FE75CAD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A7D95-6EFF-4E4B-812C-5AA601AF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4F62D-7228-4C16-8CDC-8352730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B08FC-8BA9-45EB-B71D-5F5DAA5B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1147B-A7A1-4F60-9598-EEF3FE3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7D67D-1594-4CCC-A9C4-1187E5B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215C7-8FCD-45CB-B94A-881C3F2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98C7A-99E4-45DB-9A80-3A175E6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5C29A-D49C-441C-9D98-8B78133B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45AAE-D32E-4920-A43E-3832CBBC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4D9-C254-42F3-BEE1-D0F96BE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12084-4A01-4AD9-AE0F-41D4B346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29AF5-9859-4036-84EC-625F4FE4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5C404-225B-49D5-982E-8AFAF3D0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0CF49A-42D3-40B4-80E2-85E3EEC1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6DC16-DB30-4AA0-9124-3E60F91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FB20B-FAAE-4524-943C-17696E1F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105D4-E003-4229-9A81-8C695128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5B01C-94E9-432D-AE0A-1DC2902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972FA-A655-4ED1-B184-4920FC6D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69567-455C-4783-AB14-A6A091C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F90-64E0-4132-8966-11C6686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BBC6A-02E4-43E4-B336-72EC474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67F13-31D0-4241-B012-B64307C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CCC0B-E5AF-448E-B76A-1B03B36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9F933-2E47-454C-B59D-E11D3132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9AE13-92B8-41A1-8ECD-84E583D4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5C4-9B9F-4656-AAF6-AE2203D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E1A5-058A-4354-A07E-46C023B970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2D5-E477-42D7-A4D2-93AFAA6467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1B9C-CC41-47AA-8B9E-A8A2ABEFE9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38F-2EB4-42D1-A066-803A4096D2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07F-7B3E-465E-80D4-2BB5E6FFAB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D4B-E2D7-4007-BB0B-58E5771C6E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854-7E80-452A-9157-AEB985A337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502600">
            <a:off x="140760" y="40431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ddd"/>
                </a:solidFill>
                <a:latin typeface="comic"/>
              </a:rPr>
              <a:t>KRYPTON</a:t>
            </a:r>
            <a:endParaRPr b="0" lang="en-US" sz="6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1792440" y="-66600"/>
            <a:ext cx="705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omic"/>
              </a:rPr>
              <a:t>HISTORY</a:t>
            </a:r>
            <a:endParaRPr b="0" lang="en-US" sz="6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ed by:Sir William Ramsey, M.W. Travers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Year Discovered:1898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y location:London England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Name Origin:Greek: Kryptos (hidden)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erivation of Name/Symbol:Words beginning with "krypton": kryp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omic"/>
              </a:rPr>
              <a:t>K</a:t>
            </a:r>
            <a:r>
              <a:rPr b="1" lang="en-US" sz="3000" spc="-1" strike="noStrike">
                <a:solidFill>
                  <a:srgbClr val="1f497d"/>
                </a:solidFill>
                <a:latin typeface="comic"/>
              </a:rPr>
              <a:t>RYPTON PHYSICAL AND CHEMICAL CHARACTERISTICS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Phase at Room Temperature: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Density at Room Temperature:0.003733 grams per cubic centimeter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Melting Point: 115.79 K (-157.36°C or -251.25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Boiling Point: 119.93 K (-153.22°C or -243.80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Color: Col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dor: Od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xidation state: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Ionic or covalent bond: covalent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 Negativity: 3.0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n Affinity:0  kJ mol-1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"/>
              </a:rPr>
              <a:t>KRYPTON'S HAZARDS, USES &amp; ABUNDANCE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isk/Hazard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OUTES OF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substance can be absorbed into the body by inhalation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INHALATION RISK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On loss of containment this gas can cause suffocation by lowering the oxygen content of the air in confined areas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EFFECTS OF SHORT-TERM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liquid may cause frostbite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FIRE: Not combustible. Heating will cause rise in pressure with risk of bursting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Use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Abundance: 0.000108-0.000114%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29:05Z</dcterms:created>
  <dc:creator>install</dc:creator>
  <dc:description/>
  <dc:language>en-US</dc:language>
  <cp:lastModifiedBy>install</cp:lastModifiedBy>
  <dcterms:modified xsi:type="dcterms:W3CDTF">2009-04-22T13:55:13Z</dcterms:modified>
  <cp:revision>3</cp:revision>
  <dc:subject/>
  <dc:title>Krypton</dc:title>
</cp:coreProperties>
</file>